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5124113" cy="106918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AB9CC-608E-4419-9684-8C6AAD3CA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CB2501DC-00B2-4A5C-8C48-DE3AA1195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7" name="PlaceHolder 6"/>
          <p:cNvSpPr>
            <a:spLocks noGrp="1"/>
          </p:cNvSpPr>
          <p:nvPr>
            <p:ph type="sldNum" idx="1"/>
          </p:nvPr>
        </p:nvSpPr>
        <p:spPr/>
        <p:txBody>
          <a:bodyPr/>
          <a:p>
            <a:fld id="{CE5A76FC-7953-460B-B7FD-2A29D5AF10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9" name="PlaceHolder 8"/>
          <p:cNvSpPr>
            <a:spLocks noGrp="1"/>
          </p:cNvSpPr>
          <p:nvPr>
            <p:ph type="sldNum" idx="1"/>
          </p:nvPr>
        </p:nvSpPr>
        <p:spPr/>
        <p:txBody>
          <a:bodyPr/>
          <a:p>
            <a:fld id="{878EEACE-210E-4D6A-A573-F80D87A46F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7E2F1957-7B71-4760-84E9-83D57CCC7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7EBCB7E6-DD1A-4967-BE8F-1E36FE6ED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1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F8260934-4975-4B9E-A314-343BF6C2C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sldNum" idx="1"/>
          </p:nvPr>
        </p:nvSpPr>
        <p:spPr/>
        <p:txBody>
          <a:bodyPr/>
          <a:p>
            <a:fld id="{30F523F4-0EC4-41F9-8CB1-5470A9740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 name="PlaceHolder 2"/>
          <p:cNvSpPr>
            <a:spLocks noGrp="1"/>
          </p:cNvSpPr>
          <p:nvPr>
            <p:ph type="sldNum" idx="1"/>
          </p:nvPr>
        </p:nvSpPr>
        <p:spPr/>
        <p:txBody>
          <a:bodyPr/>
          <a:p>
            <a:fld id="{9AB1B562-1691-48F1-8915-22F89544F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A900FE44-3E0B-434D-AAAF-CBDB59C01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69104E9E-5762-4683-B23C-093C6083D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2148D580-EE5D-4574-AE3F-857533CDB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15440"/>
            <a:ext cx="15122520" cy="41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5122520" cy="406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313080" y="522360"/>
            <a:ext cx="10896480" cy="878040"/>
          </a:xfrm>
          <a:prstGeom prst="rect">
            <a:avLst/>
          </a:prstGeom>
          <a:noFill/>
          <a:ln w="0">
            <a:noFill/>
          </a:ln>
        </p:spPr>
        <p:style>
          <a:lnRef idx="0"/>
          <a:fillRef idx="0"/>
          <a:effectRef idx="0"/>
          <a:fontRef idx="minor"/>
        </p:style>
        <p:txBody>
          <a:bodyPr lIns="147600" rIns="147600" tIns="73800" bIns="73800" anchor="t">
            <a:spAutoFit/>
          </a:bodyPr>
          <a:p>
            <a:pPr>
              <a:tabLst>
                <a:tab algn="l" pos="0"/>
                <a:tab algn="l" pos="1474920"/>
                <a:tab algn="l" pos="2949480"/>
                <a:tab algn="l" pos="4424400"/>
                <a:tab algn="l" pos="5899320"/>
                <a:tab algn="l" pos="7373880"/>
                <a:tab algn="l" pos="8848800"/>
                <a:tab algn="l" pos="10323360"/>
              </a:tabLst>
            </a:pPr>
            <a:r>
              <a:rPr b="1" lang="it-IT" sz="1600" spc="-1" strike="noStrike">
                <a:solidFill>
                  <a:srgbClr val="000066"/>
                </a:solidFill>
                <a:latin typeface="Times New Roman"/>
              </a:rPr>
              <a:t>ASSESSORATO ALLA MOBILIT</a:t>
            </a:r>
            <a:r>
              <a:rPr b="1" lang="en-US" sz="1600" spc="-1" strike="noStrike">
                <a:solidFill>
                  <a:srgbClr val="000066"/>
                </a:solidFill>
                <a:latin typeface="Times New Roman"/>
                <a:ea typeface="Times New Roman"/>
              </a:rPr>
              <a:t>À</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VII DIREZIONE CENTRALE</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SERVIZIO VIABILITÀ E TRAFFICO</a:t>
            </a:r>
            <a:endParaRPr b="0" lang="en-US" sz="1600" spc="-1" strike="noStrike">
              <a:solidFill>
                <a:srgbClr val="000000"/>
              </a:solidFill>
              <a:latin typeface="Times New Roman"/>
            </a:endParaRPr>
          </a:p>
        </p:txBody>
      </p:sp>
      <p:sp>
        <p:nvSpPr>
          <p:cNvPr id="3" name=""/>
          <p:cNvSpPr/>
          <p:nvPr/>
        </p:nvSpPr>
        <p:spPr>
          <a:xfrm>
            <a:off x="289080" y="1386000"/>
            <a:ext cx="14544360" cy="8785080"/>
          </a:xfrm>
          <a:prstGeom prst="rect">
            <a:avLst/>
          </a:prstGeom>
          <a:blipFill rotWithShape="0">
            <a:blip r:embed="rId2">
              <a:alphaModFix amt="33000"/>
            </a:blip>
            <a:srcRect/>
            <a:tile tx="0" ty="0" sx="100000" sy="100000" algn="ctr"/>
          </a:blip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11793240" y="10173960"/>
            <a:ext cx="3151080" cy="56196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en-US" sz="2300" spc="-1" strike="noStrike">
                <a:solidFill>
                  <a:srgbClr val="ffffff"/>
                </a:solidFill>
                <a:latin typeface="Times New Roman"/>
              </a:defRPr>
            </a:lvl1pPr>
          </a:lstStyle>
          <a:p>
            <a:pPr indent="0" algn="r">
              <a:buNone/>
              <a:tabLst>
                <a:tab algn="l" pos="0"/>
                <a:tab algn="l" pos="1474920"/>
                <a:tab algn="l" pos="2949480"/>
                <a:tab algn="l" pos="4424400"/>
                <a:tab algn="l" pos="5899320"/>
                <a:tab algn="l" pos="7373880"/>
                <a:tab algn="l" pos="8848800"/>
                <a:tab algn="l" pos="10323360"/>
              </a:tabLst>
            </a:pPr>
            <a:fld id="{29459544-B842-4B73-A2D4-3EB061250AA0}" type="slidenum">
              <a:rPr b="0" lang="en-US" sz="2300" spc="-1" strike="noStrike">
                <a:solidFill>
                  <a:srgbClr val="ffffff"/>
                </a:solidFill>
                <a:latin typeface="Times New Roman"/>
              </a:rPr>
              <a:t>&lt;number&gt;</a:t>
            </a:fld>
            <a:endParaRPr b="0" lang="en-US" sz="2300" spc="-1" strike="noStrike">
              <a:solidFill>
                <a:srgbClr val="000000"/>
              </a:solidFill>
              <a:latin typeface="Times New Roman"/>
            </a:endParaRPr>
          </a:p>
        </p:txBody>
      </p:sp>
      <p:sp>
        <p:nvSpPr>
          <p:cNvPr id="5" name="PlaceHolder 2"/>
          <p:cNvSpPr>
            <a:spLocks noGrp="1"/>
          </p:cNvSpPr>
          <p:nvPr>
            <p:ph type="dt" idx="2"/>
          </p:nvPr>
        </p:nvSpPr>
        <p:spPr>
          <a:xfrm>
            <a:off x="177480" y="10173960"/>
            <a:ext cx="3854520" cy="56196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it-IT" sz="2300" spc="-1" strike="noStrike">
                <a:solidFill>
                  <a:srgbClr val="ffffff"/>
                </a:solidFill>
                <a:latin typeface="Times New Roman"/>
              </a:defRPr>
            </a:lvl1pPr>
          </a:lstStyle>
          <a:p>
            <a:pPr indent="0">
              <a:buNone/>
              <a:tabLst>
                <a:tab algn="l" pos="0"/>
                <a:tab algn="l" pos="1474920"/>
                <a:tab algn="l" pos="2949480"/>
                <a:tab algn="l" pos="4424400"/>
                <a:tab algn="l" pos="5899320"/>
                <a:tab algn="l" pos="7373880"/>
                <a:tab algn="l" pos="8848800"/>
                <a:tab algn="l" pos="10323360"/>
              </a:tabLst>
            </a:pPr>
            <a:fld id="{D3BA7485-A1C6-4591-8A30-979AD3A2769B}" type="datetime">
              <a:rPr b="0" lang="it-IT" sz="2300" spc="-1" strike="noStrike">
                <a:solidFill>
                  <a:srgbClr val="ffffff"/>
                </a:solidFill>
                <a:latin typeface="Times New Roman"/>
              </a:rPr>
              <a:t>30/07/26</a:t>
            </a:fld>
            <a:r>
              <a:rPr b="0" lang="en-US" sz="2300" spc="-1" strike="noStrike">
                <a:solidFill>
                  <a:srgbClr val="ffffff"/>
                </a:solidFill>
                <a:latin typeface="Times New Roman"/>
              </a:rPr>
              <a:t>Napoli, luglio 2005 </a:t>
            </a:r>
            <a:endParaRPr b="0" lang="en-US" sz="2300" spc="-1" strike="noStrike">
              <a:solidFill>
                <a:srgbClr val="000000"/>
              </a:solidFill>
              <a:latin typeface="Times New Roman"/>
            </a:endParaRPr>
          </a:p>
        </p:txBody>
      </p:sp>
      <p:pic>
        <p:nvPicPr>
          <p:cNvPr id="6" name="0" descr=""/>
          <p:cNvPicPr/>
          <p:nvPr/>
        </p:nvPicPr>
        <p:blipFill>
          <a:blip r:embed="rId3"/>
          <a:stretch/>
        </p:blipFill>
        <p:spPr>
          <a:xfrm>
            <a:off x="2305080" y="450720"/>
            <a:ext cx="988920" cy="844560"/>
          </a:xfrm>
          <a:prstGeom prst="rect">
            <a:avLst/>
          </a:prstGeom>
          <a:ln w="0">
            <a:noFill/>
          </a:ln>
        </p:spPr>
      </p:pic>
      <p:sp>
        <p:nvSpPr>
          <p:cNvPr id="7" name="PlaceHolder 3"/>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8" name="PlaceHolder 4"/>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marL="552600" indent="-552600">
              <a:spcBef>
                <a:spcPts val="1301"/>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Times New Roman"/>
              </a:rPr>
              <a:t>Click to edit the outline text format</a:t>
            </a:r>
            <a:endParaRPr b="0" lang="en-US" sz="5200" spc="-1" strike="noStrike">
              <a:solidFill>
                <a:srgbClr val="000000"/>
              </a:solidFill>
              <a:latin typeface="Times New Roman"/>
            </a:endParaRPr>
          </a:p>
          <a:p>
            <a:pPr lvl="1" marL="1198440" indent="-460080">
              <a:spcBef>
                <a:spcPts val="1125"/>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4500" spc="-1" strike="noStrike">
                <a:solidFill>
                  <a:srgbClr val="000000"/>
                </a:solidFill>
                <a:latin typeface="Times New Roman"/>
              </a:rPr>
              <a:t>Second Outline Level</a:t>
            </a:r>
            <a:endParaRPr b="0" lang="en-US" sz="4500" spc="-1" strike="noStrike">
              <a:solidFill>
                <a:srgbClr val="000000"/>
              </a:solidFill>
              <a:latin typeface="Times New Roman"/>
            </a:endParaRPr>
          </a:p>
          <a:p>
            <a:pPr lvl="2" marL="1844640" indent="-369720">
              <a:spcBef>
                <a:spcPts val="975"/>
              </a:spcBef>
              <a:buClr>
                <a:srgbClr val="000000"/>
              </a:buClr>
              <a:buFont typeface="Times New Roman"/>
              <a:buChar char="•"/>
              <a:tabLst>
                <a:tab algn="l" pos="2949480"/>
                <a:tab algn="l" pos="4424400"/>
                <a:tab algn="l" pos="5899320"/>
                <a:tab algn="l" pos="7373880"/>
                <a:tab algn="l" pos="8848800"/>
                <a:tab algn="l" pos="10323360"/>
              </a:tabLst>
            </a:pPr>
            <a:r>
              <a:rPr b="0" lang="en-US" sz="3900" spc="-1" strike="noStrike">
                <a:solidFill>
                  <a:srgbClr val="000000"/>
                </a:solidFill>
                <a:latin typeface="Times New Roman"/>
              </a:rPr>
              <a:t>Third Outline Level</a:t>
            </a:r>
            <a:endParaRPr b="0" lang="en-US" sz="3900" spc="-1" strike="noStrike">
              <a:solidFill>
                <a:srgbClr val="000000"/>
              </a:solidFill>
              <a:latin typeface="Times New Roman"/>
            </a:endParaRPr>
          </a:p>
          <a:p>
            <a:pPr lvl="3" marL="2581200" indent="-368280">
              <a:spcBef>
                <a:spcPts val="799"/>
              </a:spcBef>
              <a:buClr>
                <a:srgbClr val="000000"/>
              </a:buClr>
              <a:buFont typeface="Times New Roman"/>
              <a:buChar char="–"/>
              <a:tabLst>
                <a:tab algn="l" pos="2949480"/>
                <a:tab algn="l" pos="4424400"/>
                <a:tab algn="l" pos="5899320"/>
                <a:tab algn="l" pos="7373880"/>
                <a:tab algn="l" pos="8848800"/>
                <a:tab algn="l" pos="1032336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19560" indent="-370080">
              <a:spcBef>
                <a:spcPts val="799"/>
              </a:spcBef>
              <a:buClr>
                <a:srgbClr val="000000"/>
              </a:buClr>
              <a:buFont typeface="Times New Roman"/>
              <a:buChar char="»"/>
              <a:tabLst>
                <a:tab algn="l" pos="4424400"/>
                <a:tab algn="l" pos="5899320"/>
                <a:tab algn="l" pos="7373880"/>
                <a:tab algn="l" pos="8848800"/>
                <a:tab algn="l" pos="1032336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32000" y="2178000"/>
            <a:ext cx="11017440" cy="7794720"/>
          </a:xfrm>
          <a:prstGeom prst="rect">
            <a:avLst/>
          </a:prstGeom>
          <a:ln w="0">
            <a:noFill/>
          </a:ln>
        </p:spPr>
      </p:pic>
      <p:sp>
        <p:nvSpPr>
          <p:cNvPr id="46" name=""/>
          <p:cNvSpPr/>
          <p:nvPr/>
        </p:nvSpPr>
        <p:spPr>
          <a:xfrm>
            <a:off x="2427120" y="2344680"/>
            <a:ext cx="10606320" cy="74660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369A5EE-CB9E-45EE-9475-67D67BC41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68" name=""/>
          <p:cNvSpPr/>
          <p:nvPr/>
        </p:nvSpPr>
        <p:spPr>
          <a:xfrm>
            <a:off x="1873080" y="3114720"/>
            <a:ext cx="11520720" cy="39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lle Autorità</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Fossato del Maschio Angioino (20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Spalti del Maschio Angioino (5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Piazza Trieste e Trento e interno Palazzo Reale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via Riccardo Filangieri Gonzaga – Cavalli di Bronzo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EB89505A-6F0B-415F-B4D2-D8E56A6C6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70"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6CD0A9E4-840F-4595-9E48-5D6E86F381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14864" t="28871" r="32391" b="9299"/>
          <a:stretch/>
        </p:blipFill>
        <p:spPr>
          <a:xfrm>
            <a:off x="1512720" y="2538360"/>
            <a:ext cx="11881080" cy="7380360"/>
          </a:xfrm>
          <a:prstGeom prst="rect">
            <a:avLst/>
          </a:prstGeom>
          <a:ln w="28440">
            <a:solidFill>
              <a:srgbClr val="000080"/>
            </a:solidFill>
            <a:miter/>
          </a:ln>
        </p:spPr>
      </p:pic>
      <p:sp>
        <p:nvSpPr>
          <p:cNvPr id="7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Caracciolo, largo Sermoneta, viale Dohrn</a:t>
            </a:r>
            <a:endParaRPr b="0" lang="en-US" sz="2600" spc="-1" strike="noStrike">
              <a:solidFill>
                <a:srgbClr val="000000"/>
              </a:solidFill>
              <a:latin typeface="Times New Roman"/>
            </a:endParaRPr>
          </a:p>
        </p:txBody>
      </p:sp>
      <p:sp>
        <p:nvSpPr>
          <p:cNvPr id="73" name=""/>
          <p:cNvSpPr/>
          <p:nvPr/>
        </p:nvSpPr>
        <p:spPr>
          <a:xfrm>
            <a:off x="4753080" y="7651800"/>
            <a:ext cx="849636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tangenziale via Cinthia, sottopasso di via Claudio, piazzale Tecchio, via Giulio Cesare, via Fuorigrotta, Galleria Laziale, piazza Sannazzaro, via Caracciolo/largo Sermoneta (largo Sermonet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BC7392C8-5361-44AD-946D-B4F4E770B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Marina</a:t>
            </a:r>
            <a:endParaRPr b="0" lang="en-US" sz="2600" spc="-1" strike="noStrike">
              <a:solidFill>
                <a:srgbClr val="000000"/>
              </a:solidFill>
              <a:latin typeface="Times New Roman"/>
            </a:endParaRPr>
          </a:p>
        </p:txBody>
      </p:sp>
      <p:sp>
        <p:nvSpPr>
          <p:cNvPr id="75"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a:t>
            </a:r>
            <a:endParaRPr b="0" lang="en-US" sz="3000" spc="-1" strike="noStrike">
              <a:solidFill>
                <a:srgbClr val="000000"/>
              </a:solidFill>
              <a:latin typeface="Times New Roman"/>
            </a:endParaRPr>
          </a:p>
        </p:txBody>
      </p:sp>
      <p:pic>
        <p:nvPicPr>
          <p:cNvPr id="76" name="" descr=""/>
          <p:cNvPicPr/>
          <p:nvPr/>
        </p:nvPicPr>
        <p:blipFill>
          <a:blip r:embed="rId1"/>
          <a:srcRect l="30023" t="42370" r="39239" b="26472"/>
          <a:stretch/>
        </p:blipFill>
        <p:spPr>
          <a:xfrm>
            <a:off x="1800360" y="2610000"/>
            <a:ext cx="11952000" cy="6421320"/>
          </a:xfrm>
          <a:prstGeom prst="rect">
            <a:avLst/>
          </a:prstGeom>
          <a:ln w="12600">
            <a:solidFill>
              <a:srgbClr val="000000"/>
            </a:solidFill>
            <a:miter/>
          </a:ln>
        </p:spPr>
      </p:pic>
      <p:sp>
        <p:nvSpPr>
          <p:cNvPr id="2" name="PlaceHolder 1"/>
          <p:cNvSpPr>
            <a:spLocks noGrp="1"/>
          </p:cNvSpPr>
          <p:nvPr>
            <p:ph type="sldNum" idx="1"/>
          </p:nvPr>
        </p:nvSpPr>
        <p:spPr/>
        <p:txBody>
          <a:bodyPr/>
          <a:p>
            <a:fld id="{0E535979-42A6-4859-8316-832371EC7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78"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 piazza del Carmine</a:t>
            </a:r>
            <a:endParaRPr b="0" lang="en-US" sz="3000" spc="-1" strike="noStrike">
              <a:solidFill>
                <a:srgbClr val="000000"/>
              </a:solidFill>
              <a:latin typeface="Times New Roman"/>
            </a:endParaRPr>
          </a:p>
        </p:txBody>
      </p:sp>
      <p:pic>
        <p:nvPicPr>
          <p:cNvPr id="79" name="" descr=""/>
          <p:cNvPicPr/>
          <p:nvPr/>
        </p:nvPicPr>
        <p:blipFill>
          <a:blip r:embed="rId1"/>
          <a:srcRect l="25361" t="27514" r="31720" b="20007"/>
          <a:stretch/>
        </p:blipFill>
        <p:spPr>
          <a:xfrm>
            <a:off x="2016000" y="2540160"/>
            <a:ext cx="9937800" cy="6440400"/>
          </a:xfrm>
          <a:prstGeom prst="rect">
            <a:avLst/>
          </a:prstGeom>
          <a:ln w="28440">
            <a:solidFill>
              <a:srgbClr val="000000"/>
            </a:solidFill>
            <a:miter/>
          </a:ln>
        </p:spPr>
      </p:pic>
      <p:sp>
        <p:nvSpPr>
          <p:cNvPr id="2" name="PlaceHolder 1"/>
          <p:cNvSpPr>
            <a:spLocks noGrp="1"/>
          </p:cNvSpPr>
          <p:nvPr>
            <p:ph type="sldNum" idx="1"/>
          </p:nvPr>
        </p:nvSpPr>
        <p:spPr/>
        <p:txBody>
          <a:bodyPr/>
          <a:p>
            <a:fld id="{28EC870A-6B56-471A-8528-128205E4A2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81" name=""/>
          <p:cNvSpPr/>
          <p:nvPr/>
        </p:nvSpPr>
        <p:spPr>
          <a:xfrm>
            <a:off x="649440" y="8807400"/>
            <a:ext cx="1396836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a:t>
            </a:r>
            <a:r>
              <a:rPr b="0" lang="it-IT" sz="2800" spc="-1" strike="noStrike">
                <a:solidFill>
                  <a:srgbClr val="000066"/>
                </a:solidFill>
                <a:latin typeface="Times New Roman"/>
              </a:rPr>
              <a:t>Uscita raccordo autostradale via Reggia di Portici, via Reggia di Portici, via Alessandro Volta, via Amerigo Vespucci, via Marina, via Brin (via Ponte della Maddalena)</a:t>
            </a:r>
            <a:endParaRPr b="0" lang="en-US" sz="2800" spc="-1" strike="noStrike">
              <a:solidFill>
                <a:srgbClr val="000000"/>
              </a:solidFill>
              <a:latin typeface="Times New Roman"/>
            </a:endParaRPr>
          </a:p>
        </p:txBody>
      </p:sp>
      <p:pic>
        <p:nvPicPr>
          <p:cNvPr id="82" name="" descr=""/>
          <p:cNvPicPr/>
          <p:nvPr/>
        </p:nvPicPr>
        <p:blipFill>
          <a:blip r:embed="rId1"/>
          <a:srcRect l="23290" t="20210" r="27606" b="18650"/>
          <a:stretch/>
        </p:blipFill>
        <p:spPr>
          <a:xfrm>
            <a:off x="2952720" y="2471760"/>
            <a:ext cx="9864720" cy="6510240"/>
          </a:xfrm>
          <a:prstGeom prst="rect">
            <a:avLst/>
          </a:prstGeom>
          <a:ln w="28440">
            <a:solidFill>
              <a:srgbClr val="000000"/>
            </a:solidFill>
            <a:miter/>
          </a:ln>
        </p:spPr>
      </p:pic>
      <p:sp>
        <p:nvSpPr>
          <p:cNvPr id="2" name="PlaceHolder 1"/>
          <p:cNvSpPr>
            <a:spLocks noGrp="1"/>
          </p:cNvSpPr>
          <p:nvPr>
            <p:ph type="sldNum" idx="1"/>
          </p:nvPr>
        </p:nvSpPr>
        <p:spPr/>
        <p:txBody>
          <a:bodyPr/>
          <a:p>
            <a:fld id="{975FA6D4-A141-4000-81A8-904B785F44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84"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857B3DE3-C23C-4FD0-A671-5BC8C9FBE3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225080" y="2106720"/>
            <a:ext cx="4465800" cy="54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I parcheggi di interscambio</a:t>
            </a: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Nelle ore di vigenza del dispositivo, si possono  utilizzare i parcheggi di interscambio che per lasciare l’auto e proseguire lo spostamento con il trasporto pubblico.</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graphicFrame>
        <p:nvGraphicFramePr>
          <p:cNvPr id="86" name=""/>
          <p:cNvGraphicFramePr/>
          <p:nvPr/>
        </p:nvGraphicFramePr>
        <p:xfrm>
          <a:off x="576360" y="1746360"/>
          <a:ext cx="9361440" cy="7441920"/>
        </p:xfrm>
        <a:graphic>
          <a:graphicData uri="http://schemas.openxmlformats.org/drawingml/2006/table">
            <a:tbl>
              <a:tblPr/>
              <a:tblGrid>
                <a:gridCol w="3868560"/>
                <a:gridCol w="1046160"/>
                <a:gridCol w="2546280"/>
                <a:gridCol w="1900440"/>
              </a:tblGrid>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pacità</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esto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 bre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De Genna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G.B. Mari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1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ostra d'Oltrema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st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2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av. 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3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P5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le Colli Aminei (mult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le Colli Amin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M</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via 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su strada 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darell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Brin (multip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r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zione 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Giochi del Mediterran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ggioreale / 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BC318EFD-9B3E-4556-A909-1FB0ABE2B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4720" y="2970360"/>
            <a:ext cx="1418616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METRONAP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garantito il funzionamento delle linee (metrò Linea 1 e Funicolari) con il seguente serviz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Metro Linea 1</a:t>
            </a:r>
            <a:r>
              <a:rPr b="0" lang="it-IT" sz="3000" spc="-1" strike="noStrike">
                <a:solidFill>
                  <a:srgbClr val="000066"/>
                </a:solidFill>
                <a:latin typeface="Times New Roman"/>
              </a:rPr>
              <a:t> - Treni ogni 12 min dalle 6.00 alla 6.30 e treni non stop con frequenza di 7 min dalle 6.30</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Funicolari Chiaia e Centrale</a:t>
            </a:r>
            <a:r>
              <a:rPr b="0" lang="it-IT" sz="3000" spc="-1" strike="noStrike">
                <a:solidFill>
                  <a:srgbClr val="000066"/>
                </a:solidFill>
                <a:latin typeface="Times New Roman"/>
              </a:rPr>
              <a:t> - corse non stop con tempo di attesa pari al tempo di incarrozzamen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È prevista la chiusura della stazione Dant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62CBF7D3-910F-4C59-98A6-9B6B838F2F4D}"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0" name=""/>
          <p:cNvSpPr/>
          <p:nvPr/>
        </p:nvSpPr>
        <p:spPr>
          <a:xfrm>
            <a:off x="576360" y="2754360"/>
            <a:ext cx="13898520" cy="483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EP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uman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000" spc="-1" strike="noStrike">
                <a:solidFill>
                  <a:srgbClr val="000066"/>
                </a:solidFill>
                <a:latin typeface="Times New Roman"/>
              </a:rPr>
              <a:t> sono previsti treni con frequenza con treni ogni 10 minuti sulla tratta Montesanto-Bagn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ircumflegre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900" spc="-1" strike="noStrike">
                <a:solidFill>
                  <a:srgbClr val="000000"/>
                </a:solidFill>
                <a:latin typeface="Times New Roman"/>
              </a:rPr>
              <a:t> </a:t>
            </a:r>
            <a:r>
              <a:rPr b="0" lang="it-IT" sz="3000" spc="-1" strike="noStrike">
                <a:solidFill>
                  <a:srgbClr val="000066"/>
                </a:solidFill>
                <a:latin typeface="Times New Roman"/>
              </a:rPr>
              <a:t>sono previsti treni con doppio armamento con frequenza ogni 20 minuti.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129D1193-F9A9-4A86-B0A7-70F9E16B861D}"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0"/>
                                        </p:tgtEl>
                                        <p:attrNameLst>
                                          <p:attrName>style.visibility</p:attrName>
                                        </p:attrNameLst>
                                      </p:cBhvr>
                                      <p:to>
                                        <p:strVal val="visible"/>
                                      </p:to>
                                    </p:set>
                                    <p:animEffect filter="box(in)"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49" name=""/>
          <p:cNvSpPr/>
          <p:nvPr/>
        </p:nvSpPr>
        <p:spPr>
          <a:xfrm>
            <a:off x="576360" y="2251080"/>
            <a:ext cx="13898520" cy="79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lgn="ctr">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l dispositivo di circolazione prevede la protezione dell’area centrale dalle ore 6,00 alle ore 17.30 del giorno 21 ottobre attuando il divieto di transito veicolare nell’area delimitata dai sottoelencati e vigilati varchi:</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aracciolo (altezza incrocio Via Sannazzar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uorigrotta (altezza Sferisteri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Tasso (Largo Santa Teresa di Calcut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Aiuola Santacroce;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ncrocio via Miano, vi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S. Antonio a Capodimonte (altezza incrocio Salita Moiariello - Salit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icolini (altezza incrocio Via Ponti Rossi);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alata Capodichino (altezza Via Sogliano - Via L. Leo) e Traversa Provenzal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Piazza Di Vittorio (Capodichino) (altezza incrocio Calata Capodichino - Corso Maddalena);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ilippo Maria Briganti (altezza incrocio Viale Maddalen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del Campo (altezza Largo Santa Maria del Piant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olonnello Lahalle (altezza incrocio Corso Malta) e Piazzola al Triv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Poggioreale (incrocio Corso Mal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orso Meridionale (altezza Via Porz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G. Ferraris (altezza incrocio svincolo Autostrada A3);</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A. Vespucci (altezza incrocio Corso Lucci - Via A. Volta – Via Brin);</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le Colli Aminei angolo via Cardinale Prisc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Miano angolo via San Rocco. </a:t>
            </a:r>
            <a:endParaRPr b="0" lang="en-US" sz="2400" spc="-1" strike="noStrike">
              <a:solidFill>
                <a:srgbClr val="000000"/>
              </a:solidFill>
              <a:latin typeface="Times New Roman"/>
            </a:endParaRPr>
          </a:p>
          <a:p>
            <a:pPr marL="457200" indent="-457200" algn="just">
              <a:tabLst>
                <a:tab algn="l" pos="0"/>
                <a:tab algn="l" pos="1474920"/>
                <a:tab algn="l" pos="2949480"/>
                <a:tab algn="l" pos="4424400"/>
                <a:tab algn="l" pos="5899320"/>
                <a:tab algn="l" pos="7373880"/>
                <a:tab algn="l" pos="8848800"/>
                <a:tab algn="l" pos="1032336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581DF0F-04BE-45C9-842F-92E5F044F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2" name=""/>
          <p:cNvSpPr/>
          <p:nvPr/>
        </p:nvSpPr>
        <p:spPr>
          <a:xfrm>
            <a:off x="576360" y="2754360"/>
            <a:ext cx="13898520" cy="479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esercito il servizio ordinario festivo, con rinforzi sulle principali linee di adduzione al centro sin dalle ore 06:00 del mattino. Complessivamente si prevede l’impiego di circa 25 bus aggiuntivi tra le ore 06:00 e le ore 08:00 sulle linee 129-140-R2-R5-C82-170- 1e 4.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mitazione dei percorsi delle altre linee principali e la chiusura al traffico privato di molte direttrici consentiranno un notevole miglioramento della periodicità di tutte le linee esercite</a:t>
            </a:r>
            <a:r>
              <a:rPr b="1" lang="it-IT"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2" name="PlaceHolder 1"/>
          <p:cNvSpPr>
            <a:spLocks noGrp="1"/>
          </p:cNvSpPr>
          <p:nvPr>
            <p:ph type="sldNum" idx="1"/>
          </p:nvPr>
        </p:nvSpPr>
        <p:spPr/>
        <p:txBody>
          <a:bodyPr/>
          <a:p>
            <a:fld id="{F6943979-D4C3-40E6-882F-25D690CF4071}"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2"/>
                                        </p:tgtEl>
                                        <p:attrNameLst>
                                          <p:attrName>style.visibility</p:attrName>
                                        </p:attrNameLst>
                                      </p:cBhvr>
                                      <p:to>
                                        <p:strVal val="visible"/>
                                      </p:to>
                                    </p:set>
                                    <p:animEffect filter="box(in)"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4" name=""/>
          <p:cNvSpPr/>
          <p:nvPr/>
        </p:nvSpPr>
        <p:spPr>
          <a:xfrm>
            <a:off x="576360" y="2754360"/>
            <a:ext cx="13898520" cy="694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Per la chiusura al transito di piazza Municipio, dall’uscita servizio del 21/10/2007 e fino a cessate  esigenze (ore 12:30 circ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3 e C4: provenienti da piazza Vittoria, percorrono via Arcoleo, tunnel Vittoria, via Acton, via C. Console, S.Lucia, via Chiatamone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2 e 202: provenienti da corso Umberto, percorrono via Depretis, via De Gasperi (invertito il senso di marcia), Portosalvo, via Marina, corso Garibaldi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C82: proveniente da via Brin, percorre via Marina esterno corsia, Portosalvo (inversione di marcia), via Marina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157: in partenza da via Brin, è diretta ad Ercolano senza transitare per piazza Municip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Alibus, è esercita sulla tratta piazza Garibaldi-Aeroporto</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63808352-4729-46B5-BD2C-282CCDB0E78B}" type="slidenum">
              <a:t>2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box(in)"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6" name=""/>
          <p:cNvSpPr/>
          <p:nvPr/>
        </p:nvSpPr>
        <p:spPr>
          <a:xfrm>
            <a:off x="576360" y="2754360"/>
            <a:ext cx="1389852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Dalle ore 7.00 circa e fino a cessate esigenze (ore 12:30 circa), le linee 1 e 4, esercite con autobus e la linea 152, provenienti rispettivamente da corso Garibaldi e via Volta, percorrono via Marina esterno corsia, Portosalvo (inversione di marcia), via Marina e proprio percorso. La linea 152 proveniente da Pozzuoli, limiterà il percorso a piazza Vittori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7BF7AA0C-F14C-460F-BE66-7DFC160F59D8}" type="slidenum">
              <a:t>2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6"/>
                                        </p:tgtEl>
                                        <p:attrNameLst>
                                          <p:attrName>style.visibility</p:attrName>
                                        </p:attrNameLst>
                                      </p:cBhvr>
                                      <p:to>
                                        <p:strVal val="visible"/>
                                      </p:to>
                                    </p:set>
                                    <p:animEffect filter="box(in)" transition="in">
                                      <p:cBhvr additive="repl">
                                        <p:cTn id="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8" name=""/>
          <p:cNvSpPr/>
          <p:nvPr/>
        </p:nvSpPr>
        <p:spPr>
          <a:xfrm>
            <a:off x="576360" y="2754360"/>
            <a:ext cx="13898520" cy="73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er la chiusura al transito di corso Amedeo di Savoia, via Pessina, piazza Museo, ecc., dalle ore 7.00 e fino a cessate esigenze (ore 16:30 cir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63-C64-C66-C67-178 limitano il percorso a piazza Lieti, dove invertono la marc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S-631-E1 ed E6 sono soppresse fino alle 16:00 cir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4: fino alle ore 7.00 limita il percorso a via Broggia, dalle ore 7.00 limita il percorso a piazza Lieti, dalle ore 12.00 percorre viale Colli Aminei, viale dei Pini, viale Colli Aminei e ritorna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1: fino alle ore 7.00 limita al Museo, dalle ore 7.00 limita a via Imbrian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182 e 184, limitano il percorso a piazza Car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7 percorrerà via Foria, via Cirillo, piazza Garibaldi, corso Garibaldi, piazza Carlo III per poi ritornare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201: fino alle ore 7.00 limita al Museo, dalle ore 7.00 percorre piazza Garibaldi, piazza S. Francesco, via Rossaroll, via Foria per poi ritornare sul proprio percor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0, proveniente dal Cardarelli, percorre via B. Cavallino, via D. Fontana, piazza Muzzi, via G. Gigante, tangenziale Arenella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47, dalle ore 12.00, dal cimitero Pietà limiterà in via Foria, via Cirillo, corso Garibaldi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60 (cimiteriale) proveniente dal Cardarelli, percorrerà via B. Cavallino, via D. Fontana, piazza Muzzi, via G. Gigante, tangenziale Arenella e proprio percors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2A7D088-7D1B-4DDA-B7CC-303E15C6044A}" type="slidenum">
              <a:t>2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8"/>
                                        </p:tgtEl>
                                        <p:attrNameLst>
                                          <p:attrName>style.visibility</p:attrName>
                                        </p:attrNameLst>
                                      </p:cBhvr>
                                      <p:to>
                                        <p:strVal val="visible"/>
                                      </p:to>
                                    </p:set>
                                    <p:animEffect filter="box(in)"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100" name=""/>
          <p:cNvSpPr/>
          <p:nvPr/>
        </p:nvSpPr>
        <p:spPr>
          <a:xfrm>
            <a:off x="576360" y="2754360"/>
            <a:ext cx="13898520" cy="640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Per la chiusura al transito di piazza Municipio, il servizio notturno del 20/10/2007 verrà modificato come di seguito specific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e linee 401-404-412-440-481: in partenza da via Brin, percorreranno piazza Garibaldi, corso Garibaldi, via Marina, via Colombo, via Acton e proprio percors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D: in partenza da via Brin, giunta in corso Umberto, percorrerà via G. Sanfelice,  via Monteoliveto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S: in partenza da Cardarelli, giunta in piazza Matteotti, percorrerà via Diaz, via Sanfelice,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9: in partenza da via Brin, giunta in corso Umberto, percorrerà via G. Sanfelice,  via Monteoliveto e proprio percorso.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6464DBB-E21D-4ADA-8C45-D70EC61E86DD}" type="slidenum">
              <a:t>2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gtEl>
                                        <p:attrNameLst>
                                          <p:attrName>style.visibility</p:attrName>
                                        </p:attrNameLst>
                                      </p:cBhvr>
                                      <p:to>
                                        <p:strVal val="visible"/>
                                      </p:to>
                                    </p:set>
                                    <p:animEffect filter="box(in)" transition="in">
                                      <p:cBhvr additive="repl">
                                        <p:cTn id="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1" name=""/>
          <p:cNvSpPr/>
          <p:nvPr/>
        </p:nvSpPr>
        <p:spPr>
          <a:xfrm>
            <a:off x="576360" y="2251080"/>
            <a:ext cx="13898520" cy="72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n deroga alle limitazioni del precedente divieto potranno circolar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mezzi pubblici di linea e non di linea (bus, taxi, auto pubbliche a noleggio con conducen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che trasportano diversamente abili con capacità di deambulazione sensibilmente ridotta, muniti  del tesserino di cui al D.M.LL.PP. 1176 del 08.06.79, regolarmente rilasciato dalla competente Autorità, nonché i veicoli della Napoli Sociale adibiti al trasporto disabi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delle Forze dell’Ordine, di soccorso e dell’Amministrazione Comunale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d Enti Pubblici, Società ed Aziende erogatrici di pubblici servizi, in chiamata di emergenza, nonché veicoli adibiti al trasporto di materiale e/o personale addetto all’esecuzione di lavori ed opere urgenti e di pubblica utilità in chiamata di eme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 Società di vigilanza privata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 servizio delle Associazioni di volontariato della Protezione Civil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on a bordo un medico in visita domiciliare per chiamate d’u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he trasportano generi alimentari deperibili, quelli di aziende produttrici di pasticceria e di ditte fornitrici di articoli floreali purché adibiti alla consegna delle merci nonché quelli adibiti al trasporto stampa e che trasportano gas terapeutici o medicina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dibiti al trasporto di attrezzature radio - televisive pubbliche e priva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con a bordo operatori del settore informazione giornalistica e radiotelevisiva, fotografi professionist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6B5A135-C2B3-4A44-B45F-B7DF6E2550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3" name=""/>
          <p:cNvSpPr/>
          <p:nvPr/>
        </p:nvSpPr>
        <p:spPr>
          <a:xfrm>
            <a:off x="649440" y="2178000"/>
            <a:ext cx="13825440" cy="807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Le strade interessate dal percorso del Pontefice sono le seguen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1</a:t>
            </a:r>
            <a:r>
              <a:rPr b="0" lang="it-IT" sz="3000" spc="-1" strike="noStrike">
                <a:solidFill>
                  <a:srgbClr val="000066"/>
                </a:solidFill>
                <a:latin typeface="Times New Roman"/>
              </a:rPr>
              <a:t>: Stazione Marittima, Piazza Municipio, via Vittorio Emanuele III, Via San Carlo, Piazza Trieste e Trento, Piazza Plebiscito (Previsto dalle ore 9.15 alle ore 9.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2</a:t>
            </a:r>
            <a:r>
              <a:rPr b="0" lang="it-IT" sz="3000" spc="-1" strike="noStrike">
                <a:solidFill>
                  <a:srgbClr val="000066"/>
                </a:solidFill>
                <a:latin typeface="Times New Roman"/>
              </a:rPr>
              <a:t>: Piazza Plebiscito, Piazza Trieste e Trento, via Toledo, piazza Carità, via Toledo, piazza VII Settembre, piazza Dante, via Pessina, via Santa Teresa degli scalzi, corso Amedeo di Savoia, tondo di Capodimonte, via Capodimonte, via Miano, viale Colli Aminei, arrivo al Seminario Arcivescovile (Previsto dalle ore 12.15 alle ore 12.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3</a:t>
            </a:r>
            <a:r>
              <a:rPr b="0" lang="it-IT" sz="3000" spc="-1" strike="noStrike">
                <a:solidFill>
                  <a:srgbClr val="000066"/>
                </a:solidFill>
                <a:latin typeface="Times New Roman"/>
              </a:rPr>
              <a:t>: viale Colli Aminei, via Miano, via Capodimonte, tondo di Capodimonte, corso Amedeo di Savoia, via Santa Teresa degli scalzi, piazza Museo Nazionale, piazza Cavour, via Foria, via Duomo (Previsto dalle ore 16.00 alle ore 16.30);</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4</a:t>
            </a:r>
            <a:r>
              <a:rPr b="0" lang="it-IT" sz="3000" spc="-1" strike="noStrike">
                <a:solidFill>
                  <a:srgbClr val="000066"/>
                </a:solidFill>
                <a:latin typeface="Times New Roman"/>
              </a:rPr>
              <a:t>: via Duomo, piazza Nicola Amore, via Duomo, via Marina, Stazione Marittima  (Previsto dalle ore 17.00 alle ore 17.15).</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99063189-D0AE-4B4B-8ED0-42F3F4B6F9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5" name=""/>
          <p:cNvSpPr/>
          <p:nvPr/>
        </p:nvSpPr>
        <p:spPr>
          <a:xfrm>
            <a:off x="1657440" y="2768760"/>
            <a:ext cx="11880720" cy="37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ulle strade interessate dal percorso del Pontefice, d</a:t>
            </a:r>
            <a:r>
              <a:rPr b="0" lang="en-US" sz="3000" spc="-1" strike="noStrike">
                <a:solidFill>
                  <a:srgbClr val="000066"/>
                </a:solidFill>
                <a:latin typeface="Times New Roman"/>
              </a:rPr>
              <a:t>alle ore 8.00 del giorno 20 ottobre alle ore 19.00 del giorno 21 ottobre, </a:t>
            </a:r>
            <a:r>
              <a:rPr b="0" lang="it-IT" sz="3000" spc="-1" strike="noStrike">
                <a:solidFill>
                  <a:srgbClr val="000066"/>
                </a:solidFill>
                <a:latin typeface="Times New Roman"/>
              </a:rPr>
              <a:t>vigerà</a:t>
            </a:r>
            <a:r>
              <a:rPr b="0" lang="en-US" sz="3000" spc="-1" strike="noStrike">
                <a:solidFill>
                  <a:srgbClr val="000066"/>
                </a:solidFill>
                <a:latin typeface="Times New Roman"/>
              </a:rPr>
              <a:t> il divieto di fermata e sosta con rimozione coatta</a:t>
            </a:r>
            <a:r>
              <a:rPr b="0" lang="it-IT" sz="3000" spc="-1" strike="noStrike">
                <a:solidFill>
                  <a:srgbClr val="000066"/>
                </a:solidFill>
                <a:latin typeface="Times New Roman"/>
              </a:rPr>
              <a:t>.</a:t>
            </a:r>
            <a:endParaRPr b="0" lang="en-US" sz="30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Inoltre, tali strade saranno interdette alla circolazione già a partire dalle ore 1.00 del giorno 21.</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CAAC2B25-F742-40D1-A8EF-D604ABCBC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7" name=""/>
          <p:cNvSpPr/>
          <p:nvPr/>
        </p:nvSpPr>
        <p:spPr>
          <a:xfrm>
            <a:off x="649440" y="2178000"/>
            <a:ext cx="13825440" cy="761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Le strade interessate dal percorso del Pontefice saranno interdette alla circolazione nei seguenti orari:</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iazza Municipio, via Vittorio Emanuele III, Via San Carlo, Piazza Trieste e Trento, Piazza Plebiscit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00 e fino a circa le 13.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Via Toledo, piazza Carità, via Toledo, piazza VII Settembre, piazza Dante, via Pessina, via Santa Teresa degli scalzi, corso Amedeo di Savoia, tondo di Capodimonte, via Capodimonte, uscita/ingresso Tangenziale Capodimonte</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8.00 alle ore 16.3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Museo Nazionale, piazza Cavour, via Foria, via Duom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2.00 alle ore 18.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C1812D0E-ED76-4A9B-B12D-A7991E375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73080" y="2538360"/>
            <a:ext cx="11376360" cy="7561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 </a:t>
            </a:r>
            <a:endParaRPr b="0" lang="en-US" sz="2600" spc="-1" strike="noStrike">
              <a:solidFill>
                <a:srgbClr val="000000"/>
              </a:solidFill>
              <a:latin typeface="Times New Roman"/>
            </a:endParaRPr>
          </a:p>
        </p:txBody>
      </p:sp>
      <p:pic>
        <p:nvPicPr>
          <p:cNvPr id="60" name="" descr=""/>
          <p:cNvPicPr/>
          <p:nvPr/>
        </p:nvPicPr>
        <p:blipFill>
          <a:blip r:embed="rId1"/>
          <a:srcRect l="17964" t="13858" r="24363" b="13956"/>
          <a:stretch/>
        </p:blipFill>
        <p:spPr>
          <a:xfrm>
            <a:off x="1943280" y="2573280"/>
            <a:ext cx="11306160" cy="7499520"/>
          </a:xfrm>
          <a:prstGeom prst="rect">
            <a:avLst/>
          </a:prstGeom>
          <a:ln w="0">
            <a:noFill/>
          </a:ln>
        </p:spPr>
      </p:pic>
      <p:sp>
        <p:nvSpPr>
          <p:cNvPr id="2" name="PlaceHolder 1"/>
          <p:cNvSpPr>
            <a:spLocks noGrp="1"/>
          </p:cNvSpPr>
          <p:nvPr>
            <p:ph type="sldNum" idx="1"/>
          </p:nvPr>
        </p:nvSpPr>
        <p:spPr/>
        <p:txBody>
          <a:bodyPr/>
          <a:p>
            <a:fld id="{D04C5814-E63A-4D2B-9CBB-CC27285A2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3" name="" descr=""/>
          <p:cNvPicPr/>
          <p:nvPr/>
        </p:nvPicPr>
        <p:blipFill>
          <a:blip r:embed="rId1"/>
          <a:srcRect l="10532" t="14323" r="25361" b="24507"/>
          <a:stretch/>
        </p:blipFill>
        <p:spPr>
          <a:xfrm>
            <a:off x="504720" y="2492280"/>
            <a:ext cx="13970160" cy="7064640"/>
          </a:xfrm>
          <a:prstGeom prst="rect">
            <a:avLst/>
          </a:prstGeom>
          <a:ln w="0">
            <a:noFill/>
          </a:ln>
        </p:spPr>
      </p:pic>
      <p:sp>
        <p:nvSpPr>
          <p:cNvPr id="2" name="PlaceHolder 1"/>
          <p:cNvSpPr>
            <a:spLocks noGrp="1"/>
          </p:cNvSpPr>
          <p:nvPr>
            <p:ph type="sldNum" idx="1"/>
          </p:nvPr>
        </p:nvSpPr>
        <p:spPr/>
        <p:txBody>
          <a:bodyPr/>
          <a:p>
            <a:fld id="{209B40B6-24AD-4975-AC66-73E8A8D1A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6" name="" descr=""/>
          <p:cNvPicPr/>
          <p:nvPr/>
        </p:nvPicPr>
        <p:blipFill>
          <a:blip r:embed="rId1"/>
          <a:srcRect l="17245" t="24739" r="38540" b="29809"/>
          <a:stretch/>
        </p:blipFill>
        <p:spPr>
          <a:xfrm>
            <a:off x="576360" y="2438280"/>
            <a:ext cx="13898520" cy="7575840"/>
          </a:xfrm>
          <a:prstGeom prst="rect">
            <a:avLst/>
          </a:prstGeom>
          <a:ln w="0">
            <a:noFill/>
          </a:ln>
        </p:spPr>
      </p:pic>
      <p:sp>
        <p:nvSpPr>
          <p:cNvPr id="2" name="PlaceHolder 1"/>
          <p:cNvSpPr>
            <a:spLocks noGrp="1"/>
          </p:cNvSpPr>
          <p:nvPr>
            <p:ph type="sldNum" idx="1"/>
          </p:nvPr>
        </p:nvSpPr>
        <p:spPr/>
        <p:txBody>
          <a:bodyPr/>
          <a:p>
            <a:fld id="{C37BFD96-4C23-4258-B453-95BDA4693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2:52:44Z</dcterms:created>
  <dc:creator>Anea</dc:creator>
  <dc:description/>
  <dc:language>en-US</dc:language>
  <cp:lastModifiedBy> </cp:lastModifiedBy>
  <dcterms:modified xsi:type="dcterms:W3CDTF">2007-10-16T19:49:55Z</dcterms:modified>
  <cp:revision>362</cp:revision>
  <dc:subject/>
  <dc:title>Nessun titolo diapositiva</dc:title>
</cp:coreProperties>
</file>