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whoosh.wav" ContentType="audio/x-wav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10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A3EA-B8FD-43EF-8AA6-565C3E191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29F6-F63F-402C-A9E0-FAF228C7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69FC-462C-4674-9635-4CBD75883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8C54-E2EB-4404-B486-D9A9D76D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4E3F-CB9F-49E2-B635-887A08A0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E634-0F98-4B73-B1D6-B6D09932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15FE-D654-4753-8483-98E434DA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8D37-E3FA-4062-AB4D-931E5909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E317-FBCE-4960-81E7-367AABCF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051D-C867-4D9D-BAEA-20D745D6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7FB0-28A1-41A4-92FF-94AC4F10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C4A8-6442-4000-81D0-31EAD8AB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74E8-0A81-4106-B657-A1175486A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3581280" cy="3276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38280" y="533520"/>
            <a:ext cx="4496040" cy="73332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GETTO SPERIMENTALE PER L’OCCUPABILITA’ DISOCCUPATI DI LUNGA DUR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72200" y="1676520"/>
            <a:ext cx="2057400" cy="1542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400800" y="3276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Job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86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838080" y="380880"/>
            <a:ext cx="657360" cy="876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286056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664400" y="228600"/>
            <a:ext cx="90828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819520" y="2209680"/>
            <a:ext cx="373356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uppo Supporto Tec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getta, coordina, controll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3581280"/>
            <a:ext cx="14479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600200" y="762120"/>
            <a:ext cx="6409800" cy="1368000"/>
            <a:chOff x="1600200" y="762120"/>
            <a:chExt cx="6409800" cy="1368000"/>
          </a:xfrm>
        </p:grpSpPr>
        <p:sp>
          <p:nvSpPr>
            <p:cNvPr id="80" name=""/>
            <p:cNvSpPr/>
            <p:nvPr/>
          </p:nvSpPr>
          <p:spPr>
            <a:xfrm>
              <a:off x="1609920" y="799920"/>
              <a:ext cx="6400080" cy="1330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01880" y="762120"/>
              <a:ext cx="1635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92640" y="1682640"/>
              <a:ext cx="1404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28120" y="833400"/>
              <a:ext cx="192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mune di Napol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45880" y="833400"/>
              <a:ext cx="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28120" y="833400"/>
              <a:ext cx="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49360" y="853920"/>
              <a:ext cx="1531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00200" y="1409760"/>
              <a:ext cx="63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10800" y="1547640"/>
              <a:ext cx="34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ABINA DI REG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2438280" y="31240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91320" y="3352680"/>
            <a:ext cx="457200" cy="1295640"/>
          </a:xfrm>
          <a:prstGeom prst="downArrow">
            <a:avLst>
              <a:gd name="adj1" fmla="val 50000"/>
              <a:gd name="adj2" fmla="val 708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30481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3200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3657600"/>
            <a:ext cx="14475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Orienta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Occupabilit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1280"/>
            <a:ext cx="14475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utele e Garanz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3352680"/>
            <a:ext cx="457200" cy="1295640"/>
          </a:xfrm>
          <a:prstGeom prst="downArrow">
            <a:avLst>
              <a:gd name="adj1" fmla="val 50000"/>
              <a:gd name="adj2" fmla="val 708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5029200"/>
            <a:ext cx="1447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er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vo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4724280"/>
            <a:ext cx="14479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pers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olas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4800600"/>
            <a:ext cx="14475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i opportunit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5943600"/>
            <a:ext cx="5562720" cy="609480"/>
          </a:xfrm>
          <a:prstGeom prst="rect">
            <a:avLst/>
          </a:prstGeom>
          <a:solidFill>
            <a:srgbClr val="8bf0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ORTELLI E JOB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55627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1320" y="55627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55627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4876920"/>
            <a:ext cx="457200" cy="990360"/>
          </a:xfrm>
          <a:prstGeom prst="downArrow">
            <a:avLst>
              <a:gd name="adj1" fmla="val 50000"/>
              <a:gd name="adj2" fmla="val 54154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43800" y="4876920"/>
            <a:ext cx="457200" cy="990360"/>
          </a:xfrm>
          <a:prstGeom prst="downArrow">
            <a:avLst>
              <a:gd name="adj1" fmla="val 50000"/>
              <a:gd name="adj2" fmla="val 54154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8520" y="9144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91440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ello organizz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47920" y="457200"/>
            <a:ext cx="52578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lussi Attivita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268280"/>
            <a:ext cx="2590920" cy="824040"/>
          </a:xfrm>
          <a:prstGeom prst="rect">
            <a:avLst/>
          </a:prstGeom>
          <a:solidFill>
            <a:srgbClr val="b7f1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occupati L.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niere del disagi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4221000"/>
            <a:ext cx="4191120" cy="2770920"/>
          </a:xfrm>
          <a:prstGeom prst="rect">
            <a:avLst/>
          </a:prstGeom>
          <a:solidFill>
            <a:srgbClr val="e4ea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zione orient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rientamento e progetti individuali per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’occupabili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ilancio di competen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ortfolio professio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rientamento ed avvio alla for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compagnamento e tutoragg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contro domanda offerta, tirocini, s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utoimpi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276720" y="297180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d6ec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30481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cec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800600" y="14479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2565360"/>
            <a:ext cx="2590920" cy="1554120"/>
          </a:xfrm>
          <a:prstGeom prst="rect">
            <a:avLst/>
          </a:prstGeom>
          <a:solidFill>
            <a:srgbClr val="e4ea70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all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enotazioni, informazione , primo filtro di accesso, Match con profilo camp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76720" y="3573360"/>
            <a:ext cx="2590920" cy="520200"/>
          </a:xfrm>
          <a:prstGeom prst="rect">
            <a:avLst/>
          </a:prstGeom>
          <a:solidFill>
            <a:srgbClr val="bbe0e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JOB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8280" y="586728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d6ec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 rot="16251600">
            <a:off x="1398960" y="213624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d6ec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6022800"/>
            <a:ext cx="2590920" cy="824040"/>
          </a:xfrm>
          <a:prstGeom prst="rect">
            <a:avLst/>
          </a:prstGeom>
          <a:solidFill>
            <a:srgbClr val="8bf07a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corso inseri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utoimpiego, stage, progetti attivi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4149720"/>
            <a:ext cx="2590920" cy="1797480"/>
          </a:xfrm>
          <a:prstGeom prst="rect">
            <a:avLst/>
          </a:prstGeom>
          <a:solidFill>
            <a:srgbClr val="8bf07a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corso forma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ase : 200 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pecialistico : 400 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mbiente, Turismo, Servizi, Edilizia, Assistenza alle persone, altr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351960" y="495288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d6ec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666880" y="1295280"/>
            <a:ext cx="373392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ENTI D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2514600"/>
            <a:ext cx="1752840" cy="838080"/>
          </a:xfrm>
          <a:prstGeom prst="rect">
            <a:avLst/>
          </a:prstGeom>
          <a:solidFill>
            <a:srgbClr val="e4ea7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3429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3429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81480" y="2438280"/>
            <a:ext cx="1447920" cy="838440"/>
          </a:xfrm>
          <a:prstGeom prst="rect">
            <a:avLst/>
          </a:prstGeom>
          <a:solidFill>
            <a:srgbClr val="e4ea7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3352680"/>
            <a:ext cx="990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D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67480" y="2057400"/>
            <a:ext cx="14479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LE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nchi Prenot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3962520"/>
            <a:ext cx="5562360" cy="609480"/>
          </a:xfrm>
          <a:prstGeom prst="rect">
            <a:avLst/>
          </a:prstGeom>
          <a:solidFill>
            <a:srgbClr val="8bf07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28800" y="457200"/>
            <a:ext cx="556272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ma Funzionamento Prenot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848720" y="42670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00400" y="2895480"/>
            <a:ext cx="457200" cy="451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981080" y="266688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NUMERO VER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334120" y="1447920"/>
            <a:ext cx="1022400" cy="817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705720" y="3962520"/>
            <a:ext cx="601560" cy="658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6248520" y="3962520"/>
            <a:ext cx="601560" cy="658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3505320" y="3962520"/>
            <a:ext cx="601560" cy="658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5791320" y="3962520"/>
            <a:ext cx="601560" cy="658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3048120" y="3962520"/>
            <a:ext cx="601560" cy="658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2590920" y="3962520"/>
            <a:ext cx="601560" cy="6588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9"/>
          <a:stretch/>
        </p:blipFill>
        <p:spPr>
          <a:xfrm>
            <a:off x="6019920" y="2743200"/>
            <a:ext cx="609480" cy="504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181480" y="27432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00"/>
                </a:solidFill>
                <a:latin typeface="Arial"/>
              </a:rPr>
              <a:t>INTER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0891200">
            <a:off x="4267080" y="28195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 rot="16223400">
            <a:off x="8305920" y="37332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 rot="10800000">
            <a:off x="6781680" y="24382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858000" y="29718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819520" y="762120"/>
            <a:ext cx="3733560" cy="99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orsi individuali avviati direttamente attraver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i sportelli Job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2362320"/>
            <a:ext cx="1981080" cy="685800"/>
          </a:xfrm>
          <a:prstGeom prst="rect">
            <a:avLst/>
          </a:prstGeom>
          <a:solidFill>
            <a:srgbClr val="e4ea7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zione di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 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3352680"/>
            <a:ext cx="457200" cy="2438640"/>
          </a:xfrm>
          <a:prstGeom prst="downArrow">
            <a:avLst>
              <a:gd name="adj1" fmla="val 50000"/>
              <a:gd name="adj2" fmla="val 133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72200" y="3276720"/>
            <a:ext cx="1447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b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95680" y="182880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52480" y="5410080"/>
            <a:ext cx="17528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er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vo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tage e tiroci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05520" y="2438280"/>
            <a:ext cx="198108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cialis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0 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334120" y="33526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334120" y="41148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10080" y="48769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410080" y="54864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3962520"/>
            <a:ext cx="1447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uris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4724280"/>
            <a:ext cx="14479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z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5562720"/>
            <a:ext cx="1447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iliz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3276720"/>
            <a:ext cx="10666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up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pe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3276720"/>
            <a:ext cx="10666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rma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4038480"/>
            <a:ext cx="106704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quisizi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bbli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733920" y="5867280"/>
            <a:ext cx="1828800" cy="4572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848720" y="4191120"/>
            <a:ext cx="10666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giana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848720" y="5105520"/>
            <a:ext cx="10666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Comune di Napoli ha curato in particolare i percorsi di Autoimpiego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 febbraio 2005 hanno preso il via i percorsi formativi sull’autoimpiego, della durata di 50 ore,  attivati grazie ad un protocollo siglato a giugno 2004 con Sviluppo Italia per verificare la praticabilità della misura del prestito d’onore; vi hanno partecipato circa 500 disoccup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sogget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une di Nap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ovincia di Nap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egione Camp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inistero del 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nte Finanziatore: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stero del Lavoro e Regione Camp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ggetto attuatore: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vincia di Napoli per l’orientament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mune di Napoli per l’autoimpieg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talia Lavoro per la mo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9640" y="83628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tentativo di risolvere i problemi collegati alla disoccupazione di lunga durata, è stato ideato il Progetto Sperimentale per i Disoccupati di Lunga Durata che ha preso l’avvio di recente grazie ad un Protocollo d’Intesa firmato tra Comune di Napoli e Provincia al quale hanno aderito il Ministero del Lavoro e la Regione Campania con un finanziamento rispettivamente di 9 e 7 milioni di Eur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ietti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rogetto vuole intervenire su fasce di disagio non sempre puntualizzate dalle politiche di intervento tradizionale e intende rafforzare i servizi per l’impiego affiancando ai tradizionali centri per l’impiego 9 job centres dislocati sul territorio comunale e provinciale, con il fine specifico di fare da collettore delle istanze di contesti locali a forte tasso di disoccupazione e disagio.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ivit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ercorso delineato riguarda complessivamente circa 10.000 disoccupati di lunga durata.  Dopo un corso d’orientamento iniziale, i partecipanti, sulla base delle proprie aspirazioni/capacità, vengono avviati verso altri percorsi formativi (attività di autoimpiego,  percorsi di mobilità geografica interregionale, formazione professionale)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782040" cy="5156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05120" y="152280"/>
            <a:ext cx="4647960" cy="118908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lla base di parametri territoriali e di dati presenti nell’Anagrafe del lavoro della Provincia di Napoli è possibile disegnare un paniere rappresentativo del disagio che tenga conto di parametri individuali e di contesto territori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 studio del paniere è attualmente in corso a cura dell’Università Federico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47920" y="1400040"/>
            <a:ext cx="6172200" cy="5391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3880" y="304920"/>
            <a:ext cx="4724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a mappa dell’incidenza degli iscritti per territorio può ess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isaggregata anche per singole zone della Città di Napoli (micro aree) ed incrociata con parametri territoriali rappresentativi delle condizioni di disagio (dispersione scolastica, criminalità, incidenza servizi sociali etc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432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-17114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929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-7095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776916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2057400"/>
            <a:ext cx="1301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La programmazione delle attività formative terrà conto anche delle informazioni disponibili sulle aree di competenza presenti e sviluppabi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912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06520" y="380880"/>
          <a:ext cx="8130960" cy="6096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380880"/>
                    <a:ext cx="813096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828800" y="457200"/>
            <a:ext cx="5562720" cy="609480"/>
          </a:xfrm>
          <a:prstGeom prst="rect">
            <a:avLst/>
          </a:prstGeom>
          <a:solidFill>
            <a:srgbClr val="8bf07a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ttivazione Nuovi Servizi per L’impi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00200" y="1271520"/>
            <a:ext cx="6019920" cy="4859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1752480"/>
            <a:ext cx="914400" cy="307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18 C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2362320"/>
            <a:ext cx="99072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10 Recapi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3962520"/>
            <a:ext cx="1219320" cy="1106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45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olloqui 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-orienta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3048120"/>
            <a:ext cx="914400" cy="459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9 Job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848720" y="1523880"/>
            <a:ext cx="1143000" cy="1654200"/>
          </a:xfrm>
          <a:prstGeom prst="rect">
            <a:avLst/>
          </a:prstGeom>
          <a:solidFill>
            <a:srgbClr val="e4ea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31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Avvio sistema Netla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(Arlav/Finsiel/Prov.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772400" y="4343400"/>
            <a:ext cx="1219320" cy="1384560"/>
          </a:xfrm>
          <a:prstGeom prst="rect">
            <a:avLst/>
          </a:prstGeom>
          <a:solidFill>
            <a:srgbClr val="e4ea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1/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vviata Form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erson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3T14:33:40Z</dcterms:created>
  <dc:creator>Dip. Lavoro Impresa</dc:creator>
  <dc:description/>
  <dc:language>en-US</dc:language>
  <cp:lastModifiedBy>Dip. Lavoro Impresa</cp:lastModifiedBy>
  <dcterms:modified xsi:type="dcterms:W3CDTF">2005-12-23T14:38:55Z</dcterms:modified>
  <cp:revision>2</cp:revision>
  <dc:subject/>
  <dc:title>Diapositiva 1</dc:title>
</cp:coreProperties>
</file>